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EDF1-27AC-4E82-BA8D-5A3280FF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6CB-9336-4236-9DF3-6E216975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1A84-63EC-4398-8CE9-112B8B01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0043-FAC0-495A-AAFB-14F558372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E597-6C82-4A08-A98F-D3065737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50F4-0B28-48F6-A592-94F1D441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921C-B877-4C04-B18D-4C3C1B8F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E65-B776-4D82-AF77-7DDC0849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8D09-29E8-40B4-94B9-B3871544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D33-9BF9-49E5-9467-2DF44413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94C4-3556-4E88-9B7F-B29EFEF3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54D7-203C-4011-85FE-FF4E4A9D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78256-56C3-4C4D-AF0E-55B8BCB81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184560" y="1676520"/>
          <a:ext cx="30146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4560" y="1676520"/>
                    <a:ext cx="30146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751040" y="392040"/>
          <a:ext cx="564336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1040" y="392040"/>
                    <a:ext cx="564336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13:51:41Z</dcterms:created>
  <dc:creator>mhusk</dc:creator>
  <dc:description/>
  <dc:language>en-US</dc:language>
  <cp:lastModifiedBy>mhusk</cp:lastModifiedBy>
  <dcterms:modified xsi:type="dcterms:W3CDTF">2009-07-09T13:52:12Z</dcterms:modified>
  <cp:revision>1</cp:revision>
  <dc:subject/>
  <dc:title>Slide 1</dc:title>
</cp:coreProperties>
</file>